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07C7E6-3DD9-4D06-8CEF-FF9B369EEF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1ADA06-0028-4951-96AE-CAD4E1822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43E6E55-8647-4940-86CB-37CA33F7A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104-91CA-4C68-96CA-F39B20E0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AB2-113D-4287-9BC5-B4C02A2D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EFA-8BF1-4C02-9F6E-CCAA9289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D5B-F745-44C6-8C1B-2D65EC83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5C3-7EB5-456D-8497-B65C2642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F0D-6677-421E-ADCF-428AF10D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6E3-1790-4240-A49C-29082E1B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D8D4-F20E-49B3-98C1-07E57F68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C62-9E52-4200-98C5-26AE854B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2D8-A6F5-4083-8CCD-0048A8EA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171-E5F2-4552-8E2A-9A986AD1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736-CC04-41B1-A57F-6E4FB6FF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9F66430-BA79-4C4E-9BCE-711E4704431C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2499F9E-C839-4650-B058-8FC4B161F30C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0402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0" y="762120"/>
            <a:ext cx="2666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Ver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aw 6 pictures.  Use a verb that names an action in 3 pictures (ex: run, talk, smile) and a verb that can’t be seen in the other 3 pictures (ex: think, worry, he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8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Two-Syllable Wor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vide your spelling words into syllable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Ex: sister – sis/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160800" y="4952880"/>
            <a:ext cx="327960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Word Famili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oose 5 words from the text and write word families.  Use the following endings:  est, ing, ly, ful, less, er, 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ex:  care, careful, careless, caring, care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ie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in cursive tw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udents must write an opinion paragraph about whether they should help parents make rules at home.  They must give 2 reasons for their opinion and support each reason with 2 details/examples as to why they think/feel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Brothers and Sisters 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4648320" y="7010280"/>
            <a:ext cx="1904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0:51:53Z</dcterms:created>
  <dc:creator> </dc:creator>
  <dc:description/>
  <dc:language>en-US</dc:language>
  <cp:lastModifiedBy>Kathryn Cobb</cp:lastModifiedBy>
  <cp:lastPrinted>2009-03-12T10:54:35Z</cp:lastPrinted>
  <dcterms:modified xsi:type="dcterms:W3CDTF">2009-03-12T15:33:31Z</dcterms:modified>
  <cp:revision>9</cp:revision>
  <dc:subject/>
  <dc:title>Slide 1</dc:title>
</cp:coreProperties>
</file>